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22.png" ContentType="image/png"/>
  <Override PartName="/ppt/media/image28.wmf" ContentType="image/x-wmf"/>
  <Override PartName="/ppt/media/image6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29.wmf" ContentType="image/x-wmf"/>
  <Override PartName="/ppt/media/image19.jpeg" ContentType="image/jpeg"/>
  <Override PartName="/ppt/media/image31.wmf" ContentType="image/x-wmf"/>
  <Override PartName="/ppt/media/image1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4800" y="6337440"/>
            <a:ext cx="3713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SURFnet Gigaport Seminar, Utrecht, November 2006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1080" cy="70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1368360" cy="73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9920" y="1725480"/>
            <a:ext cx="706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0000"/>
                </a:solidFill>
                <a:latin typeface="Times New Roman"/>
              </a:rPr>
              <a:t>SMART-1: using e-VLBI to track satell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5360" y="4241880"/>
            <a:ext cx="36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rpad Szom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c0128"/>
                </a:solidFill>
                <a:latin typeface="Times New Roman"/>
              </a:rPr>
              <a:t>Signals (SMART-1 Impact on Moon)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60" y="914400"/>
            <a:ext cx="9717120" cy="2982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0840" y="20574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sci.esa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35240" y="3200400"/>
            <a:ext cx="3848040" cy="1228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548160" y="4419720"/>
            <a:ext cx="3095640" cy="1361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30400" y="4086360"/>
            <a:ext cx="1647000" cy="459720"/>
          </a:xfrm>
          <a:prstGeom prst="rect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Hobart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2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91440" y="4038480"/>
            <a:ext cx="1637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TI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Conce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400" y="4956120"/>
            <a:ext cx="34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SMART-1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light @ Hob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05:42:22.394060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03 Sep 2006 U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43160" y="1293840"/>
            <a:ext cx="6488280" cy="504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25640" y="47628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c0128"/>
                </a:solidFill>
                <a:latin typeface="Times New Roman"/>
              </a:rPr>
              <a:t>e-VLBI to Sourth Ame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01640" y="1657440"/>
            <a:ext cx="503712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44480" y="1282680"/>
            <a:ext cx="840600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31960" y="758880"/>
            <a:ext cx="719928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641520"/>
            <a:ext cx="832320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39840" y="871560"/>
            <a:ext cx="7520040" cy="53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55800" y="1680840"/>
            <a:ext cx="781200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imary mission of JIVE and EVN is astronomic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atellite trac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Technological challeng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Explore new methods of data acquisition, data processing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e-VLBI: Test-case for networking community: lightpaths on demand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Powerful demonstrator of capabilities of VLBI: PR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51160" y="771480"/>
            <a:ext cx="13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c0128"/>
                </a:solidFill>
                <a:latin typeface="Times New Roman"/>
              </a:rPr>
              <a:t>Why</a:t>
            </a:r>
            <a:r>
              <a:rPr b="0" lang="nl-NL" sz="32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c0128"/>
                </a:solidFill>
                <a:latin typeface="Times New Roman"/>
              </a:rPr>
              <a:t>Spacecraf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5240" y="1066680"/>
            <a:ext cx="6767280" cy="4219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79218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9200" y="-3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c0128"/>
                </a:solidFill>
                <a:latin typeface="Times New Roman"/>
              </a:rPr>
              <a:t>Huygens  descent track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6560" y="929880"/>
            <a:ext cx="4065480" cy="23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during 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vage of Doppler experi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up experience with spacecraf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pecial purpose, narrow band software correlato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8840" y="3357720"/>
            <a:ext cx="5073480" cy="3332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43320" y="1095480"/>
            <a:ext cx="5195880" cy="389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946760" y="1293840"/>
            <a:ext cx="4149720" cy="3930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099040" y="2179800"/>
            <a:ext cx="4200480" cy="420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513400" y="3086280"/>
            <a:ext cx="3809880" cy="2730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7480440" y="2984400"/>
            <a:ext cx="2165040" cy="3686400"/>
            <a:chOff x="7480440" y="2984400"/>
            <a:chExt cx="2165040" cy="3686400"/>
          </a:xfrm>
        </p:grpSpPr>
        <p:pic>
          <p:nvPicPr>
            <p:cNvPr id="101" name="" descr=""/>
            <p:cNvPicPr/>
            <p:nvPr/>
          </p:nvPicPr>
          <p:blipFill>
            <a:blip r:embed="rId6"/>
            <a:srcRect l="24228" t="0" r="0" b="0"/>
            <a:stretch/>
          </p:blipFill>
          <p:spPr>
            <a:xfrm>
              <a:off x="7480440" y="2984400"/>
              <a:ext cx="2165040" cy="3686400"/>
            </a:xfrm>
            <a:prstGeom prst="rect">
              <a:avLst/>
            </a:prstGeom>
            <a:ln w="9360">
              <a:solidFill>
                <a:srgbClr val="cc0099"/>
              </a:solidFill>
              <a:miter/>
            </a:ln>
          </p:spPr>
        </p:pic>
        <p:sp>
          <p:nvSpPr>
            <p:cNvPr id="102" name=""/>
            <p:cNvSpPr/>
            <p:nvPr/>
          </p:nvSpPr>
          <p:spPr>
            <a:xfrm rot="17058600">
              <a:off x="7789680" y="4982040"/>
              <a:ext cx="2575080" cy="36828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19191"/>
                  </a:solidFill>
                  <a:latin typeface="Times New Roman"/>
                </a:rPr>
                <a:t>Parachute flight dynam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316720" y="3051000"/>
                  <a:ext cx="1209960" cy="5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ℓW</m:t>
                              </m:r>
                            </m:num>
                            <m:den>
                              <m:r>
                                <m:t xml:space="preserve">I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2120" y="-15840"/>
            <a:ext cx="944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99120" y="2743200"/>
            <a:ext cx="47037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9040" y="830160"/>
            <a:ext cx="9582120" cy="53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71800"/>
            <a:ext cx="495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ygens VLBI data – Parkes &amp; Mopra (CSIRO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ydn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dicated light pa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dne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att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JIVE (user controlled light p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x 13 minutes scans transferred at data rates of 45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ibrator fringes &lt;12 hrs after observations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7680" y="762120"/>
            <a:ext cx="2970360" cy="19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311640" y="762120"/>
            <a:ext cx="2805120" cy="1909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97880" y="2300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47920" y="2376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2480" y="23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s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81560" y="2835360"/>
            <a:ext cx="2309760" cy="119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240160" y="4470480"/>
            <a:ext cx="4621320" cy="2346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277040" y="725400"/>
            <a:ext cx="2625840" cy="190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219720" y="743040"/>
            <a:ext cx="1717920" cy="18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360" y="3535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e-VLBI to South America? SMART-1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18200" y="1274400"/>
            <a:ext cx="40528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MART-1 factshe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Testing solar-electric propulsion and other deep-space technologies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 stands for Small Missions for Advanced Research in Technology. 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Description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of ESA’s Small Missions for Advanced Research in Technology. It travelled to the Moon using solar-electric propulsion and carrying a battery of miniaturised instru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As well as testing new technology, SMART-1 is making the first comprehensive inventory of key chemical elements in the lunar surface. It is also investigating the theory that the Moon was formed following the violent collision of a smaller planet with Earth, four and a half thousand million years ago.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Launched 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27 September 2003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tatu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Arrived in lunar orbit, 15 November 2004. Conducting lunar orbit science operations.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ote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European spacecraft to travel to and orbit around the Mo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his is only the second time that ion propulsion has been used as a mission's primary propulsion system (the first was NASA's Deep Space 1 probe launched in October 1998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SMART-1 is looking for water (in the form of ice) on the Mo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o save precious xenon fuel, SMART-1 uses 'celestial mechanics', that is, techniques such as making use of 'lunar resonances' and fly-bys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8880" y="3166920"/>
            <a:ext cx="4265640" cy="29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65200" y="1512720"/>
            <a:ext cx="2397240" cy="191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90200" y="898200"/>
            <a:ext cx="9489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Console"/>
              </a:rPr>
              <a:t>Spacecraft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7680" y="2743200"/>
            <a:ext cx="909648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5281560" y="2133720"/>
            <a:ext cx="495360" cy="1676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5280" y="1647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3520" y="4191120"/>
            <a:ext cx="412560" cy="759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3520" y="4191120"/>
            <a:ext cx="16488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77920" y="4191120"/>
            <a:ext cx="16524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394000" y="2209680"/>
            <a:ext cx="1649520" cy="198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1480" y="180324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Coherent</a:t>
            </a:r>
            <a:r>
              <a:rPr b="0" lang="nl-NL" sz="2400" spc="-1" strike="noStrike">
                <a:solidFill>
                  <a:srgbClr val="99ff99"/>
                </a:solidFill>
                <a:latin typeface="Lucida Console"/>
              </a:rPr>
              <a:t> </a:t>
            </a:r>
            <a:r>
              <a:rPr b="0" lang="nl-NL" sz="2400" spc="-1" strike="noStrike">
                <a:solidFill>
                  <a:srgbClr val="0033cc"/>
                </a:solidFill>
                <a:latin typeface="Lucida Console"/>
              </a:rPr>
              <a:t>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2520" y="-252720"/>
            <a:ext cx="775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c0128"/>
                </a:solidFill>
                <a:latin typeface="Times New Roman"/>
              </a:rPr>
              <a:t>SMART-1: Occultation by Moon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16680" y="4267080"/>
            <a:ext cx="4373280" cy="2111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7680" y="762120"/>
            <a:ext cx="4621320" cy="2819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43000" y="995400"/>
            <a:ext cx="45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SMART-1  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rrier wave voltage, power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phase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s detected by Medicina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72200" y="3657600"/>
            <a:ext cx="41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For comparison: power (red) and phase (b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atterns for diffraction on a flat circular 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94120" y="2254320"/>
            <a:ext cx="486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Post-egress “classical” diffraction pat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d zoom on pre-egress features, like th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ose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seen around seconds 5 and 8-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47680" y="3657600"/>
            <a:ext cx="4621320" cy="278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8:22:56Z</dcterms:created>
  <dc:creator>parsley</dc:creator>
  <dc:description/>
  <dc:language>en-US</dc:language>
  <cp:lastModifiedBy>System Management</cp:lastModifiedBy>
  <cp:lastPrinted>2001-03-09T11:05:18Z</cp:lastPrinted>
  <dcterms:modified xsi:type="dcterms:W3CDTF">2006-11-02T12:34:14Z</dcterms:modified>
  <cp:revision>255</cp:revision>
  <dc:subject/>
  <dc:title>eVLBI Progress</dc:title>
</cp:coreProperties>
</file>